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FFC-7FEA-49C2-959A-9BC15F5B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233-2C8F-4AB0-9CB8-939C0E42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AF6-1965-45D7-A530-B3855DD9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F90-2B32-4FEC-A359-49B321B6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718-1FB5-41A0-9DBA-BA6CB4A5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4B1-42E6-4444-807D-648EB393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183-267D-4589-B90E-BCF11641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34F-7649-455F-A859-5BDD2DF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2DB-6710-4055-8F01-29645B93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D16-DB09-4FDB-8941-7AF2C48D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B8F-ABB0-4B95-8700-1576FE8C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2D9-87D9-4FFA-9138-86EE66D2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3460-9E69-49F4-8045-1ADFA63ECF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Univariate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mbria Math"/>
                <a:ea typeface="Cambria Math"/>
              </a:rPr>
              <a:t>Summary of 1A to 1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ox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Symmetric: whiskers are about the same length and the median is a bout halfway along the box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Negatively skewed: the left-hand whisker is longer than the right-hand whisker and the median occurs closer to the right-hand end of the box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Positively skewed: the left-hand whisker is shorter than the right-hand whisker and the median occurs closer to the left-hand end of the box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An outlier is a score, </a:t>
            </a:r>
            <a:r>
              <a:rPr b="0" i="1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x</a:t>
            </a: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, which lies </a:t>
            </a:r>
            <a:r>
              <a:rPr b="0" lang="en-AU" sz="27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outside</a:t>
            </a: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 the interval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1785960" y="5715000"/>
          <a:ext cx="596592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5715000"/>
                    <a:ext cx="5965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,                   where          represent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sum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of all the observations in the data set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n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presents the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number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of observations in the se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mean is not a reliable indicator of the centre of the distribution when the data is skewed or contains an outl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2071800" y="1357200"/>
          <a:ext cx="148104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357200"/>
                    <a:ext cx="14810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4786200" y="1571760"/>
          <a:ext cx="78588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571760"/>
                    <a:ext cx="785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r grouped data,                            where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presents the frequency of the data and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m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presents the midpoint of the class interval of the group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more symmetrical the distribution, the closer the value of the mean is to the medi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071960" y="1357200"/>
          <a:ext cx="231624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1357200"/>
                    <a:ext cx="23162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Types o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Univariate data are data with one vari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ts of data with two variables are called bivariate data (Chapter 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Defini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Numerical data: quantities that are measurable or cou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tegorical data: data divided into categories or grou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screte data: variable can only take certain fixed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ntinuous data: variable can take any value between two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tem pl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Stem plot constructed by breaking numerals into two parts. The last digit is always the “leaf” and any preceding digits form the “stem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f the data is bunched, then it may be useful to break the stems into halves or even fif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ot plots, frequency histograms and bar cha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On a frequency histogram, the vertical axis displays the frequency and the horizontal axis displays the class interv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928800" y="3357720"/>
            <a:ext cx="7358040" cy="19227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requency: the number of times an item (or a category of items) occurs. For example, in Worked Example 5 on p.9 of textbook, the frequency that 7 hours occurs is 3. In Worked Example 6, the frequency of the weight being between 40 and 44.9 is 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  <a:ea typeface="Cambria Math"/>
              </a:rPr>
              <a:t>What’s the difference between bar charts and histo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bars on a bar chart are separated, the bars on a histogram touch one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r charts are often (but not always) used to represent categorical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f the data on a bar chart are numerical, they </a:t>
            </a:r>
            <a:r>
              <a:rPr b="0" lang="en-AU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must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be discr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rs on a bar chart can be arranged horizontally or vertic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escribing the shape of stem plots and histogra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Symmetric: single peak and the data trail off on either side of this peak in roughly the same fash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Negatively skewed: if the data peaks to the right  and trails off to the le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Positively skewed: if the data peaks to the left and trails off to the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dian is the midpoint of a set of data. Half the data are less than or equal to the median. When there are </a:t>
            </a:r>
            <a:r>
              <a:rPr b="0" i="1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n </a:t>
            </a: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observations in a set of ordered data, the median can be located at the                  th 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357720" y="3429000"/>
          <a:ext cx="146520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3429000"/>
                    <a:ext cx="1465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IQ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interquartile range,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QR = Q</a:t>
            </a:r>
            <a:r>
              <a:rPr b="0" i="1" lang="en-AU" sz="3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– Q</a:t>
            </a:r>
            <a:r>
              <a:rPr b="0" i="1" lang="en-AU" sz="3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QR gives is the range of the middle 50% of values in the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our steps to calculating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3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nd 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30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i="1" lang="en-AU" sz="3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Write down the set of data in order from lowest to highe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Locate the median (</a:t>
            </a:r>
            <a:r>
              <a:rPr b="0" i="1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2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2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nsider the lower half of data. Find the middle score. This is </a:t>
            </a:r>
            <a:r>
              <a:rPr b="0" i="1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2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1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onsider the upper half of data. Find the middle score. This is </a:t>
            </a:r>
            <a:r>
              <a:rPr b="0" i="1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Q</a:t>
            </a:r>
            <a:r>
              <a:rPr b="0" i="1" lang="en-AU" sz="26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3</a:t>
            </a:r>
            <a:r>
              <a:rPr b="0" lang="en-AU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 Math"/>
                <a:ea typeface="Cambria Math"/>
              </a:rPr>
              <a:t>Range and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range of a set of data is the difference between the highest and the lowest values in that 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The mode is the score that occurs most frequen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4:11:59Z</dcterms:created>
  <dc:creator>08843474</dc:creator>
  <dc:description/>
  <dc:language>en-US</dc:language>
  <cp:lastModifiedBy>08843474</cp:lastModifiedBy>
  <dcterms:modified xsi:type="dcterms:W3CDTF">2011-01-23T06:00:02Z</dcterms:modified>
  <cp:revision>12</cp:revision>
  <dc:subject/>
  <dc:title>Univariate Data</dc:title>
</cp:coreProperties>
</file>